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B4E-4F45-40E4-BA07-F1BC277F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6977-47A8-4EF7-A3C6-671BCDD6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F938-B28D-4A99-9D26-7E86A13E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B63-2F89-4327-B23D-9DDC6556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62BA-9C18-4EA5-A82A-74024B2A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DBA3-FAF6-4845-897C-E1878A83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DDF2-4076-44A5-89A9-A5DE1CA9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F75E-8331-45F4-A00B-539288B5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E010-DEFC-46DA-A4FA-B79A3CD6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194A-36C5-4097-BEB3-CA5FC849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D4FB-D196-474C-8438-EBF5897A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1F7B-9C9A-422C-AD2B-EE030ABD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90CD-774A-47A5-8A88-CEBB06EC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407C-7344-4DE5-A658-B10BB517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B5D6-B91D-4DB0-8615-CDDEB7E4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648A-B8F1-4763-AE48-50CF2235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AE61-F89C-40BA-98A9-CD709688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B88-1B9F-46F6-8BBB-BAC1D09B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35A-841A-4B77-B9E0-1A624C9F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76AE-AC2F-42D0-92F0-E286CB1C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A9B0-24E5-4143-AB59-E113B5BE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CFF-CB1A-4634-BED7-C4742B4E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E4D-9B15-4906-A9B8-86E092D7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D6E-98C8-4B1E-B673-143C0744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53E6-9749-4DE2-89F4-4B17E8B0B7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A6FB-671F-4470-877B-BA916B416D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yrene.org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Fox new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52480" y="1905120"/>
            <a:ext cx="5079960" cy="40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By: Cody ,Lucas, and Jos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464832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Volcano Erupt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cano erupts in Hawaii does 2.5 thousand in da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30480" y="1981080"/>
            <a:ext cx="27190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hat causes volcano to erupt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66800" y="1981080"/>
            <a:ext cx="76089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Effects of volcano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dsl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thqua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v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lan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lling a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80844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afety Tip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y distance from volcano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touch the 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4343400" cy="3124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09680" y="52578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00-679-729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05320" y="0"/>
            <a:ext cx="172692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lav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repell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8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8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2819520" cy="609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Resources 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fema.g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news.bbc.co.u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kidskonnec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volcano.und.nodak.edu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http://www.kyren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binmaxe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ggestsof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4:26:17Z</dcterms:created>
  <dc:creator>D83  User</dc:creator>
  <dc:description/>
  <dc:language>en-US</dc:language>
  <cp:lastModifiedBy>D83  User</cp:lastModifiedBy>
  <dcterms:modified xsi:type="dcterms:W3CDTF">2011-03-23T19:21:02Z</dcterms:modified>
  <cp:revision>14</cp:revision>
  <dc:subject/>
  <dc:title>PowerPoint Presentation</dc:title>
</cp:coreProperties>
</file>